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68FC-AC5B-4FDD-AE17-20FEA4D19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E7E1-3F8C-4ECE-95A4-851E221F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33B8-6D8E-4DE4-8F67-2CCA7D2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7775-3BAA-4334-A7FC-910E8CB8C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62F1A-9A78-46DD-9244-2A30B5D759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71067-D38C-4611-9C32-CDF06A32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23BC2-1EE0-4F18-9129-29A4D73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0EAFC-33E9-4427-AAEF-599100B8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3E7D4-3494-4810-8D95-4F2BCE78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F694F-1F24-4E29-A677-8F337B80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AD642-9371-4D4D-A081-ABA4E06B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4C79-1BE9-48D2-A90C-178BB629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9573E-4B31-40ED-BC12-E3ACF2A8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37E00-8B43-46B4-BE3B-062A1D0B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68F69-B922-464A-B374-BECAF630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CCF7E-5F35-4C07-9287-E596750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F12FB-D1FA-48FD-92DA-B8CBEC927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E152-F683-4952-B55D-984198A5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E23D-4540-4054-AB6F-58F92169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2B28-1FAC-427D-BA6C-9A0F152E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B294-AB39-4A17-BE00-150D4D37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019E-D046-4BDA-B21D-B1E4C261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B600-59DD-4AE0-93C2-F45B2A6F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6E9D-5412-4483-862A-E051A6B6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0320" y="250920"/>
            <a:ext cx="8380440" cy="12729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9D68-8C81-4948-9BE8-1A8FFE0BF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04960" y="73080"/>
            <a:ext cx="66600" cy="1112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04960" y="303120"/>
            <a:ext cx="66600" cy="10980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04960" y="530280"/>
            <a:ext cx="66600" cy="1094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5800" y="6470640"/>
            <a:ext cx="3505320" cy="3794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85800" y="6242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2"/>
          <a:srcRect l="1886" t="18999" r="84769" b="76291"/>
          <a:stretch/>
        </p:blipFill>
        <p:spPr>
          <a:xfrm>
            <a:off x="698400" y="653400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2209680" y="6610320"/>
            <a:ext cx="22100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9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1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1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461C-037F-4BE7-8407-C174E77E9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240" y="250488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424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698400" y="654516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09680" y="6608880"/>
            <a:ext cx="2210040" cy="24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54908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OS ELEMENTOS D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STADO DE RESULTADOS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INGRES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Son el producto de las v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COST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Son los gastos incurridos en la produc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dministración y venta de los productos o servic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endidos en el perí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600" y="1781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OS ELEMENTOS DEL ESTADO DE RESULTADOS</a:t>
            </a:r>
            <a:r>
              <a:rPr b="1" lang="en-US" sz="2000" spc="-1" strike="noStrike">
                <a:solidFill>
                  <a:srgbClr val="b1e61a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DEPRECIACIÓN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Es el valor que perdió el activo fij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urante el período y que se carga al costo de 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OTROS INGRESOS O EGRES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Partidas que n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tán directamente relacionadas con el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CORRECCIÓN MONETARIA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Ganancia o pérdid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alor como consecuencia de la inflación del períod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33520"/>
            <a:ext cx="883908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Bookman Old Style"/>
              </a:rPr>
              <a:t>    </a:t>
            </a:r>
            <a:r>
              <a:rPr b="1" lang="es-ES_tradnl" sz="4000" spc="-1" strike="noStrike">
                <a:solidFill>
                  <a:srgbClr val="b1e61a"/>
                </a:solidFill>
                <a:latin typeface="Bookman Old Style"/>
              </a:rPr>
              <a:t>FINANZAS EMPRESAR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man Old Style"/>
              </a:rPr>
              <a:t>es un aporte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al desarroll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la mediana y pequeña empresa de Chile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3200400" y="3429000"/>
            <a:ext cx="2590920" cy="57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1886" t="18999" r="84769" b="76291"/>
          <a:stretch/>
        </p:blipFill>
        <p:spPr>
          <a:xfrm>
            <a:off x="698400" y="653400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95480" y="2514600"/>
            <a:ext cx="32004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asesoriasonlin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159048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AS HERRAMIENTAS BÁS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EL BALANCE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Es un reflejo de la estructura de 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presa a un momento determinado generalment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in de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EL ESTADO DE RESULTADOS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el resumen de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peración de su empresa en un período de tiemp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terminado (generalmente este período es de 1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s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154908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OS ELEMENTOS DEL BALANCE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ACTIV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Son todos los bienes que su empresa pose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PASIV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Son todas las deudas que su empresa ha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ntraí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PATRIMONIO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Corresponde a su capital como du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 la empresa y resulta de la diferencia de los act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nos los 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54908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OS ACTIVOS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ACTIVOS CIRCULANTE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Lo que usted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vertir en el corto plazo para realizar su negoc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bieran corresponder en su mayoría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aja o Ban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 a 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154944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OS ACTIVOS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ACTIVOS FIJ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Es la inversión en infraestructu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que debe realizar para efectuar su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bieran corresponder en su mayoría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quipos, Maquinarias, Herramientas y Vehícu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errenos, Oficinas, Bode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55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OS ACTIVOS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OTROS ACTIV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Son inversiones que ust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ealiza y que no corresponden a las part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ntes mencionadas o no están directam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elacionadas con su negocio, por ejemp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CIRCULANTE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Préstamos a tercero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FIJ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Inversiones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OS PASIVOS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PASIVOS CIRCULANTE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Lo que usted debe en el corto plazo y usó para financiar su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bieran corresponder en su mayoría a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s Bancarios a Cort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s de 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tras Cuentas por Pagar del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55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OS PASIVOS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PASIVOS DE LARGO PLAZO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Las Fuentes d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inanciamiento de largo plazo o a más de un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lazo de ven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bieran corresponder en su mayoría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s Bancarios a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s de Proveed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visiones a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520" y="154944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L PATRIMONIO DE 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1e61a"/>
                </a:solidFill>
                <a:uFillTx/>
                <a:latin typeface="Bookman Old Style"/>
              </a:rPr>
              <a:t>EL CAPITAL: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rresponde a lo que efectivamente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presa tiene después de cancelar todos su 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ra ello hay que descontar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s Cuentas de So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s Créditos Incob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s Existencias Obsole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17:45:48Z</dcterms:created>
  <dc:creator>Ricardo Almazán</dc:creator>
  <dc:description/>
  <dc:language>en-US</dc:language>
  <cp:lastModifiedBy>Oscar Vaquero</cp:lastModifiedBy>
  <dcterms:modified xsi:type="dcterms:W3CDTF">2001-07-19T22:29:02Z</dcterms:modified>
  <cp:revision>43</cp:revision>
  <dc:subject/>
  <dc:title>WWW.ASESORIASONLINE.CL</dc:title>
</cp:coreProperties>
</file>